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E41-7E67-42E8-A06C-197985E2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CF6-821F-4B53-B3B0-C4A9B983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924A-F5C4-4FC5-98B5-745F6CC05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10D-A6CF-4E9A-B51D-8680375A7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68B-B5DB-4BE8-BE39-5D2CC3BA4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0140-0A79-4196-BE2B-1422A474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EDCA-57A0-4C70-8783-0F3CF6A4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F4D-1E3F-47EB-BAD4-2EBBA399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FD3-1CE6-40BB-BF8F-5890092F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91F-A213-4EC7-AC4B-826F7A8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DF9-2CF7-4FF3-A6B0-FFCF7BD6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82C-EB57-498B-AE3D-BD910254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54C-C064-46CC-BAD1-8D889692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705-327F-4327-B06B-E896415F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75C-B2D4-48E4-B5BC-D8BB2C5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DFE-6E67-4C27-8427-A7B38816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80F-AA0C-4B4F-BD61-CC5B416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CA7-5EE4-4AB0-AA6F-87DEE5E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9C3-9A18-44E5-8A30-6B8CF960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392-6701-4FFB-B467-74567792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F941-903E-4EFB-93AC-A335682A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54280" y="354240"/>
            <a:ext cx="56372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dentify Your Strengths and Focusing On Improved 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t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gypt Uni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828800"/>
          <a:ext cx="7924680" cy="3809880"/>
        </p:xfrm>
        <a:graphic>
          <a:graphicData uri="http://schemas.openxmlformats.org/drawingml/2006/table">
            <a:tbl>
              <a:tblPr/>
              <a:tblGrid>
                <a:gridCol w="1141200"/>
                <a:gridCol w="1155960"/>
                <a:gridCol w="988920"/>
                <a:gridCol w="930240"/>
                <a:gridCol w="830160"/>
                <a:gridCol w="935280"/>
                <a:gridCol w="1042920"/>
                <a:gridCol w="900000"/>
              </a:tblGrid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  it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t  it Wro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ew/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sn’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e/ Gues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ple Mistak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  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914400" y="897840"/>
            <a:ext cx="61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am good at:  My Strengt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79480" y="2993400"/>
            <a:ext cx="73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got wrong because of simple mistakes: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990720" y="4966920"/>
            <a:ext cx="63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 can do to keep this from happening ag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600200" y="152388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752480" y="34290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2480" y="54864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0440" y="1188360"/>
            <a:ext cx="82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targets I got wrong and I am not sure what to do to correct them: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828800" y="2057400"/>
            <a:ext cx="54864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271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905120" y="4038480"/>
            <a:ext cx="5486400" cy="171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80880" y="3660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 do to get better at them:  My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l Self-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quiz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hoic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range-Man-Aiming-a-Bow-and-Arrow-at-a-Target-During-Archery-Practice-10939"/>
          <p:cNvPicPr/>
          <p:nvPr/>
        </p:nvPicPr>
        <p:blipFill>
          <a:blip r:embed="rId1"/>
          <a:stretch/>
        </p:blipFill>
        <p:spPr>
          <a:xfrm>
            <a:off x="5811840" y="3200400"/>
            <a:ext cx="3046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urvey"/>
          <p:cNvPicPr/>
          <p:nvPr/>
        </p:nvPicPr>
        <p:blipFill>
          <a:blip r:embed="rId1"/>
          <a:stretch/>
        </p:blipFill>
        <p:spPr>
          <a:xfrm>
            <a:off x="3502080" y="4800600"/>
            <a:ext cx="1861920" cy="1933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87% of my students said self-assessing helps them ‘Greatly’ or ‘Somewhat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% of students reported self-assessing affected the way they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half said they’d like to use self-assessment aids ‘more frequently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y students sa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assessing is important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me what my strong points in the areas a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more time on you, not in group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me a visual of what I need to focus on so I know what I need to stud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listening to yourself can help you on tests/quizz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self_reflection_pic"/>
          <p:cNvPicPr/>
          <p:nvPr/>
        </p:nvPicPr>
        <p:blipFill>
          <a:blip r:embed="rId1"/>
          <a:stretch/>
        </p:blipFill>
        <p:spPr>
          <a:xfrm>
            <a:off x="6324480" y="4648320"/>
            <a:ext cx="1690920" cy="19126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assessing is important becau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lps me understand what I miss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ts me know what (I) need to study and how much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content will be on the test.  Some teachers don’t tell you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elps me learn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me my mistake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1:15:52Z</dcterms:created>
  <dc:creator>Tina Withorn</dc:creator>
  <dc:description/>
  <dc:language>en-US</dc:language>
  <cp:lastModifiedBy>mmiddleton</cp:lastModifiedBy>
  <dcterms:modified xsi:type="dcterms:W3CDTF">2011-02-08T14:19:19Z</dcterms:modified>
  <cp:revision>2</cp:revision>
  <dc:subject/>
  <dc:title>Slide 1</dc:title>
</cp:coreProperties>
</file>